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0AC-CFBC-4B42-917E-2806006F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permanent duality (Trade- Off) among those institutional cho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bility vs. Checks and balances (Control Mechanis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ation vs. Decen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liamentary System with Majority rule and Two-par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concentration of Power in the Executive by Majority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biscitary style of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lection of the party leader necessarily means the election of the government leader (dictatorship of the cabinet over the parlia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UK, Germany (two parties and a ha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liamentary System with PR and Multi-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incentive to coalition of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coalition that chooses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negotiation with the parli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8 of 15 stable democracies (Denmark, Sweden, Norway, Holland, Italy, Belgian, Luxemburg, Icelan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idential Syste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th Majority rule and Two-par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alist (Executive vs. Legislative; National vs. Local Constituenc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d Government or Autocratic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ss checks and balances mechanis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idential System with Proportional Representation and Multi-part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cratic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gmentation of the Decision-mak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166-8CA9-41CD-B27D-9B955AF5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A49-375A-40A4-B05B-C444180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837-7E96-4424-8DB3-65EF1D66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008-8A2A-4D62-8949-82023F08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332-8F6A-41AC-AD80-94D0440C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C04-85AB-46D3-A3BA-CF268293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F7F-44B7-4070-AF5E-ECCFF3E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286-3C45-4CE1-B595-5F8E9EB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19F-94DF-46BA-96E4-73329CC4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6F3-13C5-4512-A0C1-35287B8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115-BD8D-49A5-B1F3-CE9C463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7A8-7685-4F61-B181-E59F074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D98-9C4C-4D22-BF08-0A4BB46C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Escolha Social, Estratégia e Racionalidade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Uma Introdução à Teoria dos Jogos na Polít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ula 11 (24/11/2004)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mensões Institucionais do Sistema Polític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3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s Partid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ista Aber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itores decidem a ordem d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co nas qualidades individuais do candi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olíticos têm menos incentivos para votar com o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rganização partidária tende a ser menos coesiva e menos discipl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Brasil, Chile, Colômbia, Finlândia, Peru e Polô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Lista Fech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deres partidários decidem a ordem n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itores votam no partido, mitigando assim a influência da reputação individual dos candi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arlamentares tendem a ser leal ao partido. Disciplina e coesão são al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Israel, África do Sul, Argentina, Bulgária, Costa Rica Espanha, Paraguai, Portugal, Turquia, Uruguai, Madagasc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 Liv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Voto Preferen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itores decidem a ordem da lista bem como eles podem votar ou em um único partido ou em vários candidatos até preencher o número de cadeiras. (Suíç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 Flex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artidos oferecem uma lista ordenada de candidatos. Os eleitores podem confirmar esta lista ou ordenar de acordo com a sua preferência. (Áustria, Bélgica, Dinamarca, Grécia, Holanda, Noruega, Republica Checa, Sué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.1.3. Sistemas Mi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b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deiras escolhidas por regra majoritária são independentes das que são eleitas por P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réia do Sul, Rússia, Taiwan, Ucrânia, Japão, Equ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 tenta corrigir as distorções do sistema majoritá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itores votam duas vezes: um ao nível distrital e outro na lista nacional do partido (fechada no caso da Alemanha). (México, Venezuela, Bolívia, Hungria, Itália, Nova Zelândia, Itá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acordo com Shugart (2001), o sistema eleitoral teria duas dimensões institucionais: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gras que regulariam a competição entre os partidos e destes com os eleitores. Em outras palavras, define se o sistema será mais representativo (inclusivo) ou mais majoritário (formador de maiori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que definiriam as relações partidárias internas no que diz respeito as conexões entre eleitores e políticos bem como entre líderes e membros dos part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, define se o sistema será centrado nos partidos ou nos candidato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da uma destas dimensões teriam um ponto médio hipotético (ou ideal) de eficiência eleitor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ta for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vios deste ponto médio, em qualquer uma das dimensões, implicaria em diminuição da eficiência do siste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É possível identificar dois desvios extremos na dimensão 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tra-partidári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per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ur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ism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m que as eleições conferem poder a um governo no qual um único partido controlaria o Executivo e a maioria legislativa. Isto significa que a pluralidade (ao invés da maioria) dos eleitores decidiria quem gov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-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resentativ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enhum dos vários partidos controlaria a maioria legislativa. O governo resultaria assim de acordos pós-eleitorais entre elites políticas. Eleitores teriam dificuldade de identificar as opções competitivas de governo que estariam disponív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ia também possível identificar desvios extremos na dimensã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ter-partidár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per-personal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elos pessoais dos candidatos com eleitores dominariam suas estratégias eleitorais. Não seria a ação ou compromisso do candidato com seu partido na arena eleitoral que aumentaria suas chances de eleição mas a sua capacidade de oferecer benefícios locais as suas bases eleit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-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lamentares não seriam controlados pelas suas bases eleit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responderiam aos seus líderes partidári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ções seriam dirigidas para ocupar posições mais altas na lista partidária ao invés de ações locais nas suas bases eleit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ipóte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eleitorais localizados nos extremos de uma ou ambas dimensões seriam inerentemente predispostos e sofreriam forte pressão para ser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eforma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Em outras palavras, estes sistemas teriam as pré-condições necessárias para a re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83920" y="603360"/>
            <a:ext cx="7855920" cy="6076800"/>
            <a:chOff x="583920" y="603360"/>
            <a:chExt cx="7855920" cy="6076800"/>
          </a:xfrm>
        </p:grpSpPr>
        <p:grpSp>
          <p:nvGrpSpPr>
            <p:cNvPr id="83" name=""/>
            <p:cNvGrpSpPr/>
            <p:nvPr/>
          </p:nvGrpSpPr>
          <p:grpSpPr>
            <a:xfrm>
              <a:off x="1207440" y="6228720"/>
              <a:ext cx="7232400" cy="163440"/>
              <a:chOff x="1207440" y="6228720"/>
              <a:chExt cx="7232400" cy="163440"/>
            </a:xfrm>
          </p:grpSpPr>
          <p:sp>
            <p:nvSpPr>
              <p:cNvPr id="84" name=""/>
              <p:cNvSpPr/>
              <p:nvPr/>
            </p:nvSpPr>
            <p:spPr>
              <a:xfrm>
                <a:off x="8105040" y="6229080"/>
                <a:ext cx="33480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15508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1924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47144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308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8420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4656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9768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6040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1224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7388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2500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52800" y="6229080"/>
                <a:ext cx="421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0392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66280" y="6229080"/>
                <a:ext cx="421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177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8012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337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9360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4580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744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603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418400" y="6133680"/>
              <a:ext cx="6846120" cy="54360"/>
              <a:chOff x="1418400" y="6133680"/>
              <a:chExt cx="6846120" cy="5436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14184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5944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7532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9285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10492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2809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439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150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79108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671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1251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3012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4776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6363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8116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987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16376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3218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978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46742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8330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0083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1843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3604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51844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6944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8705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469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2046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63810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5570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7150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89112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671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435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012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57728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7536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929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0877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82638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18400" y="6134040"/>
                <a:ext cx="6845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891000" y="1338120"/>
              <a:ext cx="439200" cy="4890960"/>
              <a:chOff x="891000" y="1338120"/>
              <a:chExt cx="439200" cy="4890960"/>
            </a:xfrm>
          </p:grpSpPr>
          <p:sp>
            <p:nvSpPr>
              <p:cNvPr id="150" name=""/>
              <p:cNvSpPr/>
              <p:nvPr/>
            </p:nvSpPr>
            <p:spPr>
              <a:xfrm>
                <a:off x="891000" y="606528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26640" y="606384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000" y="558828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26640" y="558756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1000" y="5125320"/>
                <a:ext cx="42228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26640" y="512424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1000" y="4648320"/>
                <a:ext cx="42228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26640" y="464760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1000" y="417132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26640" y="416988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96480" y="369540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369396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6480" y="323172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30320" y="3231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6480" y="2754720"/>
                <a:ext cx="33372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30320" y="275400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96480" y="227844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0320" y="2277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96480" y="181512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0320" y="181404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96480" y="1338120"/>
                <a:ext cx="33372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30320" y="13381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348200" y="1406520"/>
              <a:ext cx="70560" cy="4728240"/>
              <a:chOff x="1348200" y="1406520"/>
              <a:chExt cx="70560" cy="472824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1348200" y="613404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383120" y="60109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383120" y="5902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383120" y="577908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348200" y="565704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383120" y="55479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383120" y="54252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383120" y="53028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348200" y="519336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383120" y="50713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383120" y="4948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383120" y="483948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348200" y="471744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383120" y="459432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383120" y="448524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383120" y="436248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348200" y="42400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383120" y="41313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1383120" y="4008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383120" y="3886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348200" y="376308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383120" y="36543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383120" y="3531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383120" y="34092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48200" y="330048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383120" y="31773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383120" y="30553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383120" y="294552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348200" y="28234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83120" y="27003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83120" y="259164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83120" y="24696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348200" y="23464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383120" y="22377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383120" y="211464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83120" y="1992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48200" y="18838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383120" y="17607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83120" y="163764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83120" y="15289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348200" y="14068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418040" y="1406520"/>
                <a:ext cx="720" cy="47271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178080" y="712080"/>
              <a:ext cx="3255840" cy="20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200" y="6033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Figura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1120" y="820800"/>
              <a:ext cx="29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Duas Dimensões das Regras Eleitora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84600" y="1040040"/>
              <a:ext cx="378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Democracias Latino-america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89800" y="6419520"/>
              <a:ext cx="544680" cy="1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-43200" y="3543840"/>
              <a:ext cx="140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mensão Intrapartid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37680" y="652752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mensão Interpartid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436760" y="3763440"/>
              <a:ext cx="6791400" cy="720"/>
              <a:chOff x="1436760" y="3763440"/>
              <a:chExt cx="6791400" cy="720"/>
            </a:xfrm>
          </p:grpSpPr>
          <p:sp>
            <p:nvSpPr>
              <p:cNvPr id="223" name=""/>
              <p:cNvSpPr/>
              <p:nvPr/>
            </p:nvSpPr>
            <p:spPr>
              <a:xfrm>
                <a:off x="14367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532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868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032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200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368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536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704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868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036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204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372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540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705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873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041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209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1373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541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709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877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33000" y="1420200"/>
              <a:ext cx="720" cy="4713480"/>
              <a:chOff x="4833000" y="1420200"/>
              <a:chExt cx="720" cy="4713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4833000" y="602424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33000" y="577908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833000" y="553392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833000" y="52887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833000" y="50436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833000" y="47984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4833000" y="45532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833000" y="43077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833000" y="40626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33000" y="38174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833000" y="35722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833000" y="332712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833000" y="30819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833000" y="28368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4833000" y="25916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833000" y="23464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833000" y="210132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4833000" y="18561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33000" y="16106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4833000" y="1420200"/>
                <a:ext cx="720" cy="5400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893120" y="6099480"/>
              <a:ext cx="72000" cy="55080"/>
              <a:chOff x="4893120" y="6099480"/>
              <a:chExt cx="72000" cy="55080"/>
            </a:xfrm>
          </p:grpSpPr>
          <p:sp>
            <p:nvSpPr>
              <p:cNvPr id="267" name=""/>
              <p:cNvSpPr/>
              <p:nvPr/>
            </p:nvSpPr>
            <p:spPr>
              <a:xfrm>
                <a:off x="4893120" y="6099480"/>
                <a:ext cx="7200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20480" y="612000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418040" y="1338120"/>
              <a:ext cx="6846480" cy="54720"/>
              <a:chOff x="1418040" y="1338120"/>
              <a:chExt cx="6846480" cy="54720"/>
            </a:xfrm>
          </p:grpSpPr>
          <p:sp>
            <p:nvSpPr>
              <p:cNvPr id="270" name=""/>
              <p:cNvSpPr/>
              <p:nvPr/>
            </p:nvSpPr>
            <p:spPr>
              <a:xfrm>
                <a:off x="82638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877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29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536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772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012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435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671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9112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50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570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810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046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469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705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44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1844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604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843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083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502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742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978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218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6376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7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116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363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776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12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251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671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910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150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39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809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0492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285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32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944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184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418040" y="1392480"/>
                <a:ext cx="68454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263800" y="1392840"/>
              <a:ext cx="70200" cy="4727520"/>
              <a:chOff x="8263800" y="1392840"/>
              <a:chExt cx="70200" cy="4727520"/>
            </a:xfrm>
          </p:grpSpPr>
          <p:sp>
            <p:nvSpPr>
              <p:cNvPr id="313" name=""/>
              <p:cNvSpPr/>
              <p:nvPr/>
            </p:nvSpPr>
            <p:spPr>
              <a:xfrm>
                <a:off x="8263800" y="139284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63800" y="151560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63800" y="162432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63800" y="17474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263800" y="186948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263800" y="1978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63800" y="21013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63800" y="22237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63800" y="233316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263800" y="2455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63800" y="257832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63800" y="268704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63800" y="28094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63800" y="2932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63800" y="30412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63800" y="31640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63800" y="328644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263800" y="3395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63800" y="3518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63800" y="36414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63800" y="37634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63800" y="3872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63800" y="39952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63800" y="41173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63800" y="42264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63800" y="434916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63800" y="4472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263800" y="45810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263800" y="47030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63800" y="4826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63800" y="49352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3800" y="50580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3800" y="51804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63800" y="52891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63800" y="54118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63800" y="5534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263800" y="564372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263800" y="57661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63800" y="58888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63800" y="59979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263800" y="61200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63800" y="1392840"/>
                <a:ext cx="720" cy="47271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007960" y="591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2238480"/>
              <a:ext cx="14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C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18560" y="1394280"/>
              <a:ext cx="27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Ven 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104800" y="1358640"/>
              <a:ext cx="70920" cy="55080"/>
              <a:chOff x="5104800" y="1358640"/>
              <a:chExt cx="70920" cy="55080"/>
            </a:xfrm>
          </p:grpSpPr>
          <p:sp>
            <p:nvSpPr>
              <p:cNvPr id="359" name=""/>
              <p:cNvSpPr/>
              <p:nvPr/>
            </p:nvSpPr>
            <p:spPr>
              <a:xfrm>
                <a:off x="5104800" y="1358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31080" y="1379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6200000">
              <a:off x="6382080" y="3666600"/>
              <a:ext cx="84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Pluralitá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2230560" y="3673800"/>
              <a:ext cx="10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represent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008600" y="368784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Represent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71040" y="144792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centraliz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40880" y="2608200"/>
              <a:ext cx="158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entrado no Parti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4200" y="489744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entrado no candid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360" y="5914800"/>
              <a:ext cx="107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persona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694480" y="1461240"/>
              <a:ext cx="17280" cy="4645080"/>
              <a:chOff x="5694480" y="1461240"/>
              <a:chExt cx="17280" cy="4645080"/>
            </a:xfrm>
          </p:grpSpPr>
          <p:sp>
            <p:nvSpPr>
              <p:cNvPr id="369" name=""/>
              <p:cNvSpPr/>
              <p:nvPr/>
            </p:nvSpPr>
            <p:spPr>
              <a:xfrm>
                <a:off x="5694480" y="5956560"/>
                <a:ext cx="17280" cy="149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94480" y="5738400"/>
                <a:ext cx="17280" cy="109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94480" y="5547960"/>
                <a:ext cx="17280" cy="81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94480" y="5275440"/>
                <a:ext cx="17280" cy="149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94480" y="5057640"/>
                <a:ext cx="17280" cy="108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94480" y="4866840"/>
                <a:ext cx="17280" cy="81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94480" y="4593960"/>
                <a:ext cx="17280" cy="149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94480" y="4376520"/>
                <a:ext cx="17280" cy="108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94480" y="4185720"/>
                <a:ext cx="17280" cy="81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94480" y="3912840"/>
                <a:ext cx="17280" cy="149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94480" y="3695400"/>
                <a:ext cx="17280" cy="108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94480" y="3504600"/>
                <a:ext cx="17280" cy="810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4480" y="3231720"/>
                <a:ext cx="17280" cy="1497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94480" y="3014280"/>
                <a:ext cx="17280" cy="1087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94480" y="2823480"/>
                <a:ext cx="17280" cy="810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94480" y="2550600"/>
                <a:ext cx="17280" cy="1497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94480" y="2332800"/>
                <a:ext cx="17280" cy="1087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94480" y="2142360"/>
                <a:ext cx="17280" cy="810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94480" y="1869480"/>
                <a:ext cx="17280" cy="14976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4480" y="1651680"/>
                <a:ext cx="17280" cy="1087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94480" y="1461240"/>
                <a:ext cx="17280" cy="817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125160" y="1447920"/>
              <a:ext cx="18000" cy="4645080"/>
              <a:chOff x="3125160" y="1447920"/>
              <a:chExt cx="18000" cy="4645080"/>
            </a:xfrm>
          </p:grpSpPr>
          <p:sp>
            <p:nvSpPr>
              <p:cNvPr id="391" name=""/>
              <p:cNvSpPr/>
              <p:nvPr/>
            </p:nvSpPr>
            <p:spPr>
              <a:xfrm>
                <a:off x="3125160" y="5943240"/>
                <a:ext cx="18000" cy="1497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25160" y="5725080"/>
                <a:ext cx="18000" cy="10872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25160" y="5533920"/>
                <a:ext cx="18000" cy="817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25160" y="5262120"/>
                <a:ext cx="18000" cy="14976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25160" y="5043600"/>
                <a:ext cx="18000" cy="1087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25160" y="4852800"/>
                <a:ext cx="18000" cy="817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5160" y="4581000"/>
                <a:ext cx="18000" cy="14940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5160" y="4362480"/>
                <a:ext cx="18000" cy="10944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5160" y="4171680"/>
                <a:ext cx="18000" cy="817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25160" y="3899880"/>
                <a:ext cx="18000" cy="14940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25160" y="3681360"/>
                <a:ext cx="18000" cy="10944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25160" y="3490560"/>
                <a:ext cx="18000" cy="817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25160" y="3218760"/>
                <a:ext cx="18000" cy="14940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25160" y="3000240"/>
                <a:ext cx="18000" cy="10944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25160" y="2809440"/>
                <a:ext cx="18000" cy="817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25160" y="2537280"/>
                <a:ext cx="18000" cy="14940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25160" y="2319120"/>
                <a:ext cx="18000" cy="10944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25160" y="2129040"/>
                <a:ext cx="18000" cy="8100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25160" y="1856160"/>
                <a:ext cx="18000" cy="14940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25160" y="1637640"/>
                <a:ext cx="18000" cy="10944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5160" y="1447920"/>
                <a:ext cx="18000" cy="8100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436760" y="5779080"/>
              <a:ext cx="6633360" cy="14040"/>
              <a:chOff x="1436760" y="5779080"/>
              <a:chExt cx="6633360" cy="14040"/>
            </a:xfrm>
          </p:grpSpPr>
          <p:sp>
            <p:nvSpPr>
              <p:cNvPr id="413" name=""/>
              <p:cNvSpPr/>
              <p:nvPr/>
            </p:nvSpPr>
            <p:spPr>
              <a:xfrm>
                <a:off x="1436760" y="5779080"/>
                <a:ext cx="193320" cy="1404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70480" y="5779080"/>
                <a:ext cx="140400" cy="1404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51640" y="5779080"/>
                <a:ext cx="105480" cy="1404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16600" y="5779080"/>
                <a:ext cx="193320" cy="1404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0680" y="5779080"/>
                <a:ext cx="140400" cy="1404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31480" y="5779080"/>
                <a:ext cx="105480" cy="140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96440" y="5779080"/>
                <a:ext cx="193320" cy="1404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30520" y="5779080"/>
                <a:ext cx="140400" cy="140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811680" y="5779080"/>
                <a:ext cx="105480" cy="1404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76280" y="5779080"/>
                <a:ext cx="193320" cy="1404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10360" y="5779080"/>
                <a:ext cx="140400" cy="1404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91520" y="5779080"/>
                <a:ext cx="105480" cy="1404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955040" y="5779080"/>
                <a:ext cx="194040" cy="1404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90200" y="5779080"/>
                <a:ext cx="140400" cy="1404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71360" y="5779080"/>
                <a:ext cx="105480" cy="1404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34880" y="5779080"/>
                <a:ext cx="193320" cy="1404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0040" y="5779080"/>
                <a:ext cx="140400" cy="1404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51200" y="5779080"/>
                <a:ext cx="105480" cy="1404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15080" y="5779080"/>
                <a:ext cx="193320" cy="1404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49880" y="5779080"/>
                <a:ext cx="140400" cy="1404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31040" y="5779080"/>
                <a:ext cx="105480" cy="1404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94920" y="5779080"/>
                <a:ext cx="193320" cy="1404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29720" y="5779080"/>
                <a:ext cx="140400" cy="1404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1436760" y="1747440"/>
              <a:ext cx="6633360" cy="12960"/>
              <a:chOff x="1436760" y="1747440"/>
              <a:chExt cx="6633360" cy="12960"/>
            </a:xfrm>
          </p:grpSpPr>
          <p:sp>
            <p:nvSpPr>
              <p:cNvPr id="437" name=""/>
              <p:cNvSpPr/>
              <p:nvPr/>
            </p:nvSpPr>
            <p:spPr>
              <a:xfrm>
                <a:off x="1436760" y="1747440"/>
                <a:ext cx="193320" cy="1296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70480" y="1747440"/>
                <a:ext cx="140400" cy="1296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51640" y="1747440"/>
                <a:ext cx="105480" cy="1296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16600" y="1747440"/>
                <a:ext cx="193320" cy="12960"/>
              </a:xfrm>
              <a:prstGeom prst="rect">
                <a:avLst/>
              </a:pr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50680" y="1747440"/>
                <a:ext cx="140400" cy="1296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31480" y="1747440"/>
                <a:ext cx="105480" cy="1296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96440" y="1747440"/>
                <a:ext cx="193320" cy="1296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30520" y="1747440"/>
                <a:ext cx="140400" cy="12960"/>
              </a:xfrm>
              <a:prstGeom prst="rect">
                <a:avLst/>
              </a:pr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11680" y="1747440"/>
                <a:ext cx="105480" cy="12960"/>
              </a:xfrm>
              <a:prstGeom prst="rect">
                <a:avLst/>
              </a:pr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76280" y="1747440"/>
                <a:ext cx="193320" cy="1296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10360" y="1747440"/>
                <a:ext cx="140400" cy="1296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91520" y="1747440"/>
                <a:ext cx="105480" cy="12960"/>
              </a:xfrm>
              <a:prstGeom prst="rect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55040" y="1747440"/>
                <a:ext cx="194040" cy="1296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290200" y="1747440"/>
                <a:ext cx="140400" cy="1296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71360" y="1747440"/>
                <a:ext cx="105480" cy="12960"/>
              </a:xfrm>
              <a:prstGeom prst="rect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34880" y="1747440"/>
                <a:ext cx="193320" cy="12960"/>
              </a:xfrm>
              <a:prstGeom prst="rect">
                <a:avLst/>
              </a:pr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0040" y="1747440"/>
                <a:ext cx="140400" cy="12960"/>
              </a:xfrm>
              <a:prstGeom prst="rect">
                <a:avLst/>
              </a:pr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1200" y="1747440"/>
                <a:ext cx="105480" cy="1296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5080" y="1747440"/>
                <a:ext cx="193320" cy="1296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49880" y="1747440"/>
                <a:ext cx="140400" cy="1296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31040" y="1747440"/>
                <a:ext cx="105480" cy="1296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94920" y="1747440"/>
                <a:ext cx="193320" cy="129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29720" y="1747440"/>
                <a:ext cx="140400" cy="12960"/>
              </a:xfrm>
              <a:prstGeom prst="rect">
                <a:avLst/>
              </a:pr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rot="16200000">
              <a:off x="4937040" y="3397320"/>
              <a:ext cx="110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Majorit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5016600" y="2311920"/>
              <a:ext cx="72000" cy="55440"/>
              <a:chOff x="5016600" y="2311920"/>
              <a:chExt cx="72000" cy="55440"/>
            </a:xfrm>
          </p:grpSpPr>
          <p:sp>
            <p:nvSpPr>
              <p:cNvPr id="462" name=""/>
              <p:cNvSpPr/>
              <p:nvPr/>
            </p:nvSpPr>
            <p:spPr>
              <a:xfrm>
                <a:off x="5016600" y="2311920"/>
                <a:ext cx="7200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43960" y="233280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641680" y="5418360"/>
              <a:ext cx="70920" cy="55080"/>
              <a:chOff x="2641680" y="5418360"/>
              <a:chExt cx="70920" cy="55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641680" y="541836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67960" y="5438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818800" y="5192640"/>
              <a:ext cx="32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Brasi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729160" y="1862640"/>
              <a:ext cx="70920" cy="55080"/>
              <a:chOff x="2729160" y="1862640"/>
              <a:chExt cx="70920" cy="55080"/>
            </a:xfrm>
          </p:grpSpPr>
          <p:sp>
            <p:nvSpPr>
              <p:cNvPr id="469" name=""/>
              <p:cNvSpPr/>
              <p:nvPr/>
            </p:nvSpPr>
            <p:spPr>
              <a:xfrm>
                <a:off x="272916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5616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457720" y="1801800"/>
              <a:ext cx="11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782080" y="1862640"/>
              <a:ext cx="70920" cy="55080"/>
              <a:chOff x="2782080" y="1862640"/>
              <a:chExt cx="70920" cy="55080"/>
            </a:xfrm>
          </p:grpSpPr>
          <p:sp>
            <p:nvSpPr>
              <p:cNvPr id="473" name=""/>
              <p:cNvSpPr/>
              <p:nvPr/>
            </p:nvSpPr>
            <p:spPr>
              <a:xfrm>
                <a:off x="278208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0836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910240" y="1775160"/>
              <a:ext cx="17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B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60080" y="17877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732120" y="1862640"/>
              <a:ext cx="70920" cy="55080"/>
              <a:chOff x="3732120" y="1862640"/>
              <a:chExt cx="70920" cy="55080"/>
            </a:xfrm>
          </p:grpSpPr>
          <p:sp>
            <p:nvSpPr>
              <p:cNvPr id="478" name=""/>
              <p:cNvSpPr/>
              <p:nvPr/>
            </p:nvSpPr>
            <p:spPr>
              <a:xfrm>
                <a:off x="373212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5912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321720" y="178920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ElS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9200" y="533052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Peru 80-8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65920" y="1979640"/>
              <a:ext cx="30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Ven I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890160" y="1849320"/>
              <a:ext cx="72000" cy="54720"/>
              <a:chOff x="3890160" y="1849320"/>
              <a:chExt cx="72000" cy="54720"/>
            </a:xfrm>
          </p:grpSpPr>
          <p:sp>
            <p:nvSpPr>
              <p:cNvPr id="484" name=""/>
              <p:cNvSpPr/>
              <p:nvPr/>
            </p:nvSpPr>
            <p:spPr>
              <a:xfrm>
                <a:off x="3890160" y="1849320"/>
                <a:ext cx="72000" cy="5472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17520" y="186948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028400" y="1775160"/>
              <a:ext cx="15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D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80400" y="1787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64880" y="1849320"/>
              <a:ext cx="70920" cy="54720"/>
              <a:chOff x="4664880" y="1849320"/>
              <a:chExt cx="70920" cy="547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64880" y="1849320"/>
                <a:ext cx="70920" cy="5472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91160" y="186948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881960" y="1719000"/>
              <a:ext cx="98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DR I, Nic, Par, H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646880" y="1834920"/>
              <a:ext cx="72000" cy="55800"/>
              <a:chOff x="4646880" y="1834920"/>
              <a:chExt cx="72000" cy="55800"/>
            </a:xfrm>
          </p:grpSpPr>
          <p:sp>
            <p:nvSpPr>
              <p:cNvPr id="493" name=""/>
              <p:cNvSpPr/>
              <p:nvPr/>
            </p:nvSpPr>
            <p:spPr>
              <a:xfrm>
                <a:off x="4646880" y="1834920"/>
                <a:ext cx="72000" cy="5580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74240" y="1856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718160" y="1862640"/>
              <a:ext cx="70920" cy="55080"/>
              <a:chOff x="4718160" y="1862640"/>
              <a:chExt cx="70920" cy="55080"/>
            </a:xfrm>
          </p:grpSpPr>
          <p:sp>
            <p:nvSpPr>
              <p:cNvPr id="496" name=""/>
              <p:cNvSpPr/>
              <p:nvPr/>
            </p:nvSpPr>
            <p:spPr>
              <a:xfrm>
                <a:off x="471816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4444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559040" y="2311920"/>
              <a:ext cx="70920" cy="55440"/>
              <a:chOff x="4559040" y="2311920"/>
              <a:chExt cx="70920" cy="55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559040" y="231192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86400" y="233280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4184280" y="223848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Ar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97840" y="225252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70000" y="1834920"/>
              <a:ext cx="72000" cy="55800"/>
              <a:chOff x="4770000" y="1834920"/>
              <a:chExt cx="72000" cy="558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70000" y="1834920"/>
                <a:ext cx="72000" cy="5580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97360" y="1856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25440" y="1979640"/>
              <a:ext cx="298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Mex 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1640" y="1992600"/>
              <a:ext cx="25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Mex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16480" y="2006640"/>
              <a:ext cx="10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013280" y="4777920"/>
              <a:ext cx="72000" cy="55080"/>
              <a:chOff x="4013280" y="4777920"/>
              <a:chExt cx="72000" cy="55080"/>
            </a:xfrm>
          </p:grpSpPr>
          <p:sp>
            <p:nvSpPr>
              <p:cNvPr id="510" name=""/>
              <p:cNvSpPr/>
              <p:nvPr/>
            </p:nvSpPr>
            <p:spPr>
              <a:xfrm>
                <a:off x="4013280" y="4777920"/>
                <a:ext cx="7200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40640" y="47984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183200" y="4677120"/>
              <a:ext cx="26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Chi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598000" y="2066760"/>
              <a:ext cx="70920" cy="55440"/>
              <a:chOff x="5598000" y="2066760"/>
              <a:chExt cx="70920" cy="55440"/>
            </a:xfrm>
          </p:grpSpPr>
          <p:sp>
            <p:nvSpPr>
              <p:cNvPr id="514" name=""/>
              <p:cNvSpPr/>
              <p:nvPr/>
            </p:nvSpPr>
            <p:spPr>
              <a:xfrm>
                <a:off x="5598000" y="20667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23920" y="20876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805640" y="2066760"/>
              <a:ext cx="70920" cy="55440"/>
              <a:chOff x="4805640" y="2066760"/>
              <a:chExt cx="70920" cy="55440"/>
            </a:xfrm>
          </p:grpSpPr>
          <p:sp>
            <p:nvSpPr>
              <p:cNvPr id="517" name=""/>
              <p:cNvSpPr/>
              <p:nvPr/>
            </p:nvSpPr>
            <p:spPr>
              <a:xfrm>
                <a:off x="4805640" y="20667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32640" y="20876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802320" y="2053440"/>
              <a:ext cx="70920" cy="55080"/>
              <a:chOff x="3802320" y="2053440"/>
              <a:chExt cx="70920" cy="55080"/>
            </a:xfrm>
          </p:grpSpPr>
          <p:sp>
            <p:nvSpPr>
              <p:cNvPr id="520" name=""/>
              <p:cNvSpPr/>
              <p:nvPr/>
            </p:nvSpPr>
            <p:spPr>
              <a:xfrm>
                <a:off x="3802320" y="20534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29320" y="20739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664880" y="5418360"/>
              <a:ext cx="70920" cy="55080"/>
              <a:chOff x="4664880" y="5418360"/>
              <a:chExt cx="70920" cy="55080"/>
            </a:xfrm>
          </p:grpSpPr>
          <p:sp>
            <p:nvSpPr>
              <p:cNvPr id="523" name=""/>
              <p:cNvSpPr/>
              <p:nvPr/>
            </p:nvSpPr>
            <p:spPr>
              <a:xfrm>
                <a:off x="4664880" y="541836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1160" y="5438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975400" y="5403960"/>
              <a:ext cx="70920" cy="55440"/>
              <a:chOff x="2975400" y="5403960"/>
              <a:chExt cx="70920" cy="55440"/>
            </a:xfrm>
          </p:grpSpPr>
          <p:sp>
            <p:nvSpPr>
              <p:cNvPr id="526" name=""/>
              <p:cNvSpPr/>
              <p:nvPr/>
            </p:nvSpPr>
            <p:spPr>
              <a:xfrm>
                <a:off x="2975400" y="54039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02760" y="542484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82520" y="5330520"/>
              <a:ext cx="41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Peru 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996000" y="5104440"/>
              <a:ext cx="72000" cy="55440"/>
              <a:chOff x="3996000" y="5104440"/>
              <a:chExt cx="72000" cy="55440"/>
            </a:xfrm>
          </p:grpSpPr>
          <p:sp>
            <p:nvSpPr>
              <p:cNvPr id="530" name=""/>
              <p:cNvSpPr/>
              <p:nvPr/>
            </p:nvSpPr>
            <p:spPr>
              <a:xfrm>
                <a:off x="3996000" y="5104440"/>
                <a:ext cx="7200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23360" y="512532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4127400" y="5031000"/>
              <a:ext cx="20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Ur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mensões Institucionais do Sistema Pol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Eleitoral Brasilei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mensão inter-partidári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-representativo com a inclusão exagerada de interesses no sistema, levando assim a excessivo número de pontos de veto, alta competitividade eleitoral e baixa identificação/visibilidade dos eleitores de seus represen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mensão intra-partidári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o no candidato individual que disporia de grande autonomia eleitoral e conseqüentemente frágeis elos e mecanismos de controle dos par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os incentivos inerentes à reforma eleitoral, por que as sucessivas tentativas de reformar o sistema eleitoral no Brasil têm fracassad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 maioria têm se beneficiado com o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tatus quo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 maioria dos parlamentares têm se candidatado a reeleição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75% in 1998 and 69% in 2002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 esta maioria (70%) têm se reel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sistema político e a governabilidade: dois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gumento da Fragmenta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s institucionais da ingovernabilidad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sidencial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partidarismo e partidos déb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gislação eleitoral fragmen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onalismo e federalismo predató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gresso é o obstáculo fundament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rgumento da central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minância do  executivo garante coes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rrogativas do executi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dimentais: poderes legislativos do presidente e controle da agenda do Cong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stantivas . Controle da máquina e da execução orçament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gado autorit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partidário razoavelmente estruturado no Congres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Poderes Constitucionais do Execu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deres Legisl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ó-A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tabelece um novo status qu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Decreto (Medida Provis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o de introduzir nova legis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o exclusivo de legislar em áreas específicas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çamento, matérias administra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Poderes Constitucionais do Execu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es Reativos (bloqueiam nova legislação e assim protege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tus q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V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es Procediment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.g. requerer trâmite de urg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ere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33520" y="167652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deres não-legisl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ção do gabin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solução do gabin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oto de Confi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solução da Assemblé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rição na execução do orçamento 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entralização vs. Descentr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001000" cy="4514760"/>
        </p:xfrm>
        <a:graphic>
          <a:graphicData uri="http://schemas.openxmlformats.org/drawingml/2006/table">
            <a:tbl>
              <a:tblPr/>
              <a:tblGrid>
                <a:gridCol w="2274840"/>
                <a:gridCol w="3059280"/>
                <a:gridCol w="266688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Políti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it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ocação de cadei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Partid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9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ament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nner takes al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3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96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dencial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 takes al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o papel da legislação eleitoral sobre a escolha social e sobre o funcionamento do Sistema Polít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Quais os principais componentes de um sistema polít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istema Elei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1. Majoritários ou Pluralista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winner takes 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2. Mi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3. Propor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istema Partid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1. Bi-partid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 Multi-partidarism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304920"/>
            <a:ext cx="7696080" cy="76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ime Pol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1. Parlamentar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2. Presidencia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stema de Gov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1. Federa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2. Sistema unit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Organização Legis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.1. Bica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.2. Unica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Processo Decisório no Congr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.1. Centralizado (líderes dos partid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.2. Descentralizado (comiss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 Eleitoral</a:t>
            </a:r>
            <a:br>
              <a:rPr sz="36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ealdade partidária vs. Comportamento individ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ocação de Cadeiras e Magnitude Distr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joritá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leger quem obteve maior número de vot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rst past the pos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stor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candidato pode se eleger com menos de 50% dos votos; não representação das minorias; foco na base eleit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overnos com suporte parlamentar unit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ia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oto 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angladesh, Canada, EUA, India, Malawi, Nepal, Pakistan, UK, and Zamb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de Dois Tu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nenhum candidato obtém mais de 50% + 1 (França e M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oto Altern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itores podem ordenar as suas preferências. O primeiro candidato que obtiver 50% é eleito (Austrál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oto em Bl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ante do sistema de maioria simples, aplicada a distritos com mais de um representante (M&gt;1). Os eleitores votam em tantos candidatos quanto forem disponíveis as cadeiras. São eleitos os mais votados (Tailândia e Filipina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17:14Z</dcterms:created>
  <dc:creator>Carlos Pereira</dc:creator>
  <dc:description/>
  <dc:language>en-US</dc:language>
  <cp:lastModifiedBy>Carlos Pereira</cp:lastModifiedBy>
  <dcterms:modified xsi:type="dcterms:W3CDTF">2004-11-24T15:17:29Z</dcterms:modified>
  <cp:revision>1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39168</vt:r8>
  </property>
  <property fmtid="{D5CDD505-2E9C-101B-9397-08002B2CF9AE}" pid="3" name="_AuthorEmail">
    <vt:lpwstr>pereirace@uol.com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Pagina do curso</vt:lpwstr>
  </property>
</Properties>
</file>